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85800" y="533520"/>
            <a:ext cx="7924680" cy="5791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4533840" y="6324480"/>
            <a:ext cx="76680" cy="152640"/>
          </a:xfrm>
          <a:custGeom>
            <a:avLst/>
            <a:gdLst/>
            <a:ahLst/>
            <a:rect l="0" t="0" r="r" b="b"/>
            <a:pathLst>
              <a:path w="213" h="424">
                <a:moveTo>
                  <a:pt x="0" y="424"/>
                </a:moveTo>
                <a:lnTo>
                  <a:pt x="213" y="424"/>
                </a:lnTo>
                <a:lnTo>
                  <a:pt x="106" y="0"/>
                </a:lnTo>
                <a:lnTo>
                  <a:pt x="0" y="42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4533840" y="304920"/>
            <a:ext cx="76680" cy="152640"/>
          </a:xfrm>
          <a:custGeom>
            <a:avLst/>
            <a:gdLst/>
            <a:ahLst/>
            <a:rect l="0" t="0" r="r" b="b"/>
            <a:pathLst>
              <a:path w="213" h="424">
                <a:moveTo>
                  <a:pt x="0" y="0"/>
                </a:moveTo>
                <a:lnTo>
                  <a:pt x="213" y="0"/>
                </a:lnTo>
                <a:lnTo>
                  <a:pt x="106" y="4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686800" y="3390840"/>
            <a:ext cx="152640" cy="76680"/>
          </a:xfrm>
          <a:custGeom>
            <a:avLst/>
            <a:gdLst/>
            <a:ahLst/>
            <a:rect l="0" t="0" r="r" b="b"/>
            <a:pathLst>
              <a:path w="424" h="213">
                <a:moveTo>
                  <a:pt x="424" y="0"/>
                </a:moveTo>
                <a:lnTo>
                  <a:pt x="424" y="213"/>
                </a:lnTo>
                <a:lnTo>
                  <a:pt x="0" y="106"/>
                </a:lnTo>
                <a:lnTo>
                  <a:pt x="42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390840"/>
            <a:ext cx="152640" cy="76680"/>
          </a:xfrm>
          <a:custGeom>
            <a:avLst/>
            <a:gdLst/>
            <a:ahLst/>
            <a:rect l="0" t="0" r="r" b="b"/>
            <a:pathLst>
              <a:path w="424" h="213">
                <a:moveTo>
                  <a:pt x="0" y="0"/>
                </a:moveTo>
                <a:lnTo>
                  <a:pt x="0" y="213"/>
                </a:lnTo>
                <a:lnTo>
                  <a:pt x="424" y="10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380880" y="3429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228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839080" y="3429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647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304920"/>
            <a:ext cx="243828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05920" y="304920"/>
            <a:ext cx="3049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01000" y="304920"/>
            <a:ext cx="3049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533520"/>
            <a:ext cx="37339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48720" y="7621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7621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762120"/>
            <a:ext cx="220968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48720" y="9907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86600" y="9907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220968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1219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1219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1219320"/>
            <a:ext cx="220968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60958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60958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60958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1880" y="579132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5791320"/>
            <a:ext cx="19051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579132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5791320"/>
            <a:ext cx="9144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5181480"/>
            <a:ext cx="327672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4800600"/>
            <a:ext cx="3276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6095880"/>
            <a:ext cx="152388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5791320"/>
            <a:ext cx="1523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4800600"/>
            <a:ext cx="152388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107040" y="270000"/>
            <a:ext cx="6253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DWG N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940520" y="255600"/>
            <a:ext cx="2937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S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40760" y="263520"/>
            <a:ext cx="349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REV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665680" y="806400"/>
            <a:ext cx="7412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DESCRIP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280280" y="798480"/>
            <a:ext cx="404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947000" y="798480"/>
            <a:ext cx="6238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APPRO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275440" y="5797440"/>
            <a:ext cx="3650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SIZ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18280" y="6140520"/>
            <a:ext cx="4478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SCAL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375680" y="6140520"/>
            <a:ext cx="457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SHE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808600" y="5176800"/>
            <a:ext cx="2249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Audio Distribution 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560" y="5504040"/>
            <a:ext cx="15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Glenn E. Cabana, WA1HM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416640" y="5797440"/>
            <a:ext cx="520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DWG N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05920" y="5797440"/>
            <a:ext cx="349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REV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861080" y="806400"/>
            <a:ext cx="349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REV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537240" y="569880"/>
            <a:ext cx="628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REVISION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762120"/>
            <a:ext cx="30492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288200" y="5504040"/>
            <a:ext cx="136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harles F. Hunt, KC1O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283360" y="5842080"/>
            <a:ext cx="318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914400"/>
            <a:ext cx="381240" cy="152640"/>
          </a:xfrm>
          <a:custGeom>
            <a:avLst/>
            <a:gdLst/>
            <a:ahLst/>
            <a:rect l="0" t="0" r="r" b="b"/>
            <a:pathLst>
              <a:path fill="none" w="1059" h="424">
                <a:moveTo>
                  <a:pt x="0" y="211"/>
                </a:moveTo>
                <a:lnTo>
                  <a:pt x="211" y="424"/>
                </a:lnTo>
                <a:lnTo>
                  <a:pt x="847" y="424"/>
                </a:lnTo>
                <a:lnTo>
                  <a:pt x="1059" y="211"/>
                </a:lnTo>
                <a:lnTo>
                  <a:pt x="847" y="0"/>
                </a:lnTo>
                <a:lnTo>
                  <a:pt x="211" y="0"/>
                </a:lnTo>
                <a:lnTo>
                  <a:pt x="0" y="21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1219320"/>
            <a:ext cx="381240" cy="152640"/>
          </a:xfrm>
          <a:custGeom>
            <a:avLst/>
            <a:gdLst/>
            <a:ahLst/>
            <a:rect l="0" t="0" r="r" b="b"/>
            <a:pathLst>
              <a:path fill="none" w="1059" h="424">
                <a:moveTo>
                  <a:pt x="0" y="211"/>
                </a:moveTo>
                <a:lnTo>
                  <a:pt x="211" y="424"/>
                </a:lnTo>
                <a:lnTo>
                  <a:pt x="847" y="424"/>
                </a:lnTo>
                <a:lnTo>
                  <a:pt x="1059" y="211"/>
                </a:lnTo>
                <a:lnTo>
                  <a:pt x="847" y="0"/>
                </a:lnTo>
                <a:lnTo>
                  <a:pt x="211" y="0"/>
                </a:lnTo>
                <a:lnTo>
                  <a:pt x="0" y="21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990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714680" y="3962520"/>
            <a:ext cx="75960" cy="382320"/>
            <a:chOff x="1714680" y="3962520"/>
            <a:chExt cx="75960" cy="382320"/>
          </a:xfrm>
        </p:grpSpPr>
        <p:sp>
          <p:nvSpPr>
            <p:cNvPr id="94" name=""/>
            <p:cNvSpPr/>
            <p:nvPr/>
          </p:nvSpPr>
          <p:spPr>
            <a:xfrm flipV="1">
              <a:off x="1752480" y="43164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1714680" y="4290840"/>
              <a:ext cx="3780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714680" y="4235400"/>
              <a:ext cx="75960" cy="5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1714680" y="4181400"/>
              <a:ext cx="75960" cy="54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714680" y="4125960"/>
              <a:ext cx="75960" cy="5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1714680" y="4071960"/>
              <a:ext cx="75960" cy="54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714680" y="4016520"/>
              <a:ext cx="75960" cy="5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1752480" y="399096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752480" y="39625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257480" y="3962520"/>
            <a:ext cx="75960" cy="382320"/>
            <a:chOff x="1257480" y="3962520"/>
            <a:chExt cx="75960" cy="382320"/>
          </a:xfrm>
        </p:grpSpPr>
        <p:sp>
          <p:nvSpPr>
            <p:cNvPr id="104" name=""/>
            <p:cNvSpPr/>
            <p:nvPr/>
          </p:nvSpPr>
          <p:spPr>
            <a:xfrm flipV="1">
              <a:off x="1295280" y="43164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1257480" y="4290840"/>
              <a:ext cx="3780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257480" y="4235400"/>
              <a:ext cx="75960" cy="5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1257480" y="4181400"/>
              <a:ext cx="75960" cy="54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257480" y="4125960"/>
              <a:ext cx="75960" cy="5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1257480" y="4071960"/>
              <a:ext cx="75960" cy="54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257480" y="4016520"/>
              <a:ext cx="75960" cy="5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1295280" y="399096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295280" y="39625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7620120" y="3276720"/>
            <a:ext cx="7632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781680" y="41101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481800" y="3543480"/>
            <a:ext cx="304920" cy="75960"/>
            <a:chOff x="6481800" y="3543480"/>
            <a:chExt cx="304920" cy="75960"/>
          </a:xfrm>
        </p:grpSpPr>
        <p:sp>
          <p:nvSpPr>
            <p:cNvPr id="116" name=""/>
            <p:cNvSpPr/>
            <p:nvPr/>
          </p:nvSpPr>
          <p:spPr>
            <a:xfrm>
              <a:off x="6481800" y="358128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6504120" y="3543480"/>
              <a:ext cx="20520" cy="37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24640" y="3543480"/>
              <a:ext cx="442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568920" y="3543480"/>
              <a:ext cx="4284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11760" y="3543480"/>
              <a:ext cx="4464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656400" y="3543480"/>
              <a:ext cx="4284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99240" y="3543480"/>
              <a:ext cx="4464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743880" y="358128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64400" y="358128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359480" y="3429000"/>
            <a:ext cx="446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404120" y="3429000"/>
            <a:ext cx="428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42280" y="342900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019920" y="3429000"/>
            <a:ext cx="134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207200" y="3886200"/>
            <a:ext cx="446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42120" y="3886200"/>
            <a:ext cx="428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89640" y="3957480"/>
            <a:ext cx="101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394320" y="3962520"/>
            <a:ext cx="819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2920" y="3429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781680" y="35812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08660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40080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0080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35812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086600" y="3886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7010280" y="3886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342900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086600" y="34290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095880" y="3924360"/>
            <a:ext cx="304920" cy="76320"/>
            <a:chOff x="6095880" y="3924360"/>
            <a:chExt cx="304920" cy="76320"/>
          </a:xfrm>
        </p:grpSpPr>
        <p:sp>
          <p:nvSpPr>
            <p:cNvPr id="144" name=""/>
            <p:cNvSpPr/>
            <p:nvPr/>
          </p:nvSpPr>
          <p:spPr>
            <a:xfrm>
              <a:off x="6095880" y="396252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118200" y="392436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38720" y="3924360"/>
              <a:ext cx="446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183360" y="392436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26200" y="3924360"/>
              <a:ext cx="4428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270480" y="392436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13320" y="3924360"/>
              <a:ext cx="446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357960" y="396252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78480" y="396252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6705720" y="3962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553080" y="4343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553080" y="4191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477120" y="4191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019920" y="4343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019920" y="28954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791320" y="39625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791320" y="24382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384960" y="3389400"/>
            <a:ext cx="458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R9 68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04080" y="3770280"/>
            <a:ext cx="5047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R10 68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375240" y="4041720"/>
            <a:ext cx="2761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C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308640" y="4456080"/>
            <a:ext cx="4129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1.0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: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994440" y="4075200"/>
            <a:ext cx="6415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Audio Jac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023240" y="3262320"/>
            <a:ext cx="2761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J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70800" y="392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85000" y="33940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0120" y="1828800"/>
            <a:ext cx="7632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781680" y="26622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481800" y="2095560"/>
            <a:ext cx="304920" cy="76320"/>
            <a:chOff x="6481800" y="2095560"/>
            <a:chExt cx="304920" cy="76320"/>
          </a:xfrm>
        </p:grpSpPr>
        <p:sp>
          <p:nvSpPr>
            <p:cNvPr id="172" name=""/>
            <p:cNvSpPr/>
            <p:nvPr/>
          </p:nvSpPr>
          <p:spPr>
            <a:xfrm>
              <a:off x="6481800" y="213372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504120" y="209556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24640" y="2095560"/>
              <a:ext cx="4428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568920" y="209556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11760" y="2095560"/>
              <a:ext cx="446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656400" y="209556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99240" y="2095560"/>
              <a:ext cx="446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743880" y="213372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64400" y="213372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7359480" y="1981080"/>
            <a:ext cx="446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404120" y="1981080"/>
            <a:ext cx="428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42280" y="198108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019920" y="1981080"/>
            <a:ext cx="134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207200" y="2438280"/>
            <a:ext cx="446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42120" y="2438280"/>
            <a:ext cx="428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89640" y="2509920"/>
            <a:ext cx="101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94320" y="2514600"/>
            <a:ext cx="819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6292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781680" y="2133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086600" y="2362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400800" y="2362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0080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2133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86600" y="24382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7010280" y="24382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198108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086600" y="19810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095880" y="2476440"/>
            <a:ext cx="304920" cy="76320"/>
            <a:chOff x="6095880" y="2476440"/>
            <a:chExt cx="304920" cy="76320"/>
          </a:xfrm>
        </p:grpSpPr>
        <p:sp>
          <p:nvSpPr>
            <p:cNvPr id="200" name=""/>
            <p:cNvSpPr/>
            <p:nvPr/>
          </p:nvSpPr>
          <p:spPr>
            <a:xfrm>
              <a:off x="6095880" y="251460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118200" y="247644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38720" y="2476440"/>
              <a:ext cx="446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183360" y="247644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6200" y="2476440"/>
              <a:ext cx="4428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270480" y="247644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13320" y="2476440"/>
              <a:ext cx="446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357960" y="251460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78480" y="251460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705720" y="2514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3080" y="28954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47712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01992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019920" y="15238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791320" y="25146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791320" y="1676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384960" y="1941480"/>
            <a:ext cx="458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R7 68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04080" y="2322360"/>
            <a:ext cx="458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R8 68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375240" y="2593800"/>
            <a:ext cx="2761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C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308640" y="3008160"/>
            <a:ext cx="4129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1.0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: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994440" y="2627280"/>
            <a:ext cx="6415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Audio Jac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023240" y="1814400"/>
            <a:ext cx="2761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J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70800" y="247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85000" y="19461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85000" y="28605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95680" y="3276720"/>
            <a:ext cx="7632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657600" y="4110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357720" y="3543480"/>
            <a:ext cx="304560" cy="75960"/>
            <a:chOff x="3357720" y="3543480"/>
            <a:chExt cx="304560" cy="75960"/>
          </a:xfrm>
        </p:grpSpPr>
        <p:sp>
          <p:nvSpPr>
            <p:cNvPr id="229" name=""/>
            <p:cNvSpPr/>
            <p:nvPr/>
          </p:nvSpPr>
          <p:spPr>
            <a:xfrm>
              <a:off x="3357720" y="3581280"/>
              <a:ext cx="21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379680" y="3543480"/>
              <a:ext cx="20880" cy="37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00560" y="3543480"/>
              <a:ext cx="442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444840" y="3543480"/>
              <a:ext cx="4284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87680" y="3543480"/>
              <a:ext cx="4464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532320" y="3543480"/>
              <a:ext cx="4284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75160" y="3543480"/>
              <a:ext cx="442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619440" y="358128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39960" y="358128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235400" y="3429000"/>
            <a:ext cx="446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80040" y="3429000"/>
            <a:ext cx="428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17840" y="3429000"/>
            <a:ext cx="101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895480" y="3429000"/>
            <a:ext cx="1346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083120" y="3886200"/>
            <a:ext cx="442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118040" y="3886200"/>
            <a:ext cx="428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65560" y="395748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270240" y="3962520"/>
            <a:ext cx="819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38480" y="3429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657600" y="3581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96252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27672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27672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3581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962520" y="388620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3886200" y="3886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34290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962520" y="342900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971800" y="3924360"/>
            <a:ext cx="304920" cy="76320"/>
            <a:chOff x="2971800" y="3924360"/>
            <a:chExt cx="304920" cy="76320"/>
          </a:xfrm>
        </p:grpSpPr>
        <p:sp>
          <p:nvSpPr>
            <p:cNvPr id="257" name=""/>
            <p:cNvSpPr/>
            <p:nvPr/>
          </p:nvSpPr>
          <p:spPr>
            <a:xfrm>
              <a:off x="2971800" y="396252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994120" y="392436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14640" y="3924360"/>
              <a:ext cx="446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059280" y="392436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02120" y="3924360"/>
              <a:ext cx="4428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146400" y="392436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89240" y="3924360"/>
              <a:ext cx="446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233880" y="396252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54400" y="396252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581280" y="3962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29000" y="4343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429000" y="4191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352680" y="4191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295280" y="4343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895480" y="27432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295280" y="39625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666880" y="25146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60880" y="3389400"/>
            <a:ext cx="458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R5 68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879640" y="3770280"/>
            <a:ext cx="458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R6 68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251160" y="4041720"/>
            <a:ext cx="2761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C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184560" y="4456080"/>
            <a:ext cx="4129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1.0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: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70360" y="4075200"/>
            <a:ext cx="6415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Audio Jac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98800" y="3262320"/>
            <a:ext cx="2761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J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46360" y="392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60560" y="33940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31960" y="247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1828800"/>
            <a:ext cx="7632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657600" y="266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357720" y="2095560"/>
            <a:ext cx="304560" cy="76320"/>
            <a:chOff x="3357720" y="2095560"/>
            <a:chExt cx="304560" cy="76320"/>
          </a:xfrm>
        </p:grpSpPr>
        <p:sp>
          <p:nvSpPr>
            <p:cNvPr id="286" name=""/>
            <p:cNvSpPr/>
            <p:nvPr/>
          </p:nvSpPr>
          <p:spPr>
            <a:xfrm>
              <a:off x="3357720" y="2133720"/>
              <a:ext cx="21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3379680" y="2095560"/>
              <a:ext cx="2088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00560" y="2095560"/>
              <a:ext cx="4428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444840" y="209556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87680" y="2095560"/>
              <a:ext cx="446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532320" y="209556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5160" y="2095560"/>
              <a:ext cx="4428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619440" y="213372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39960" y="213372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235400" y="1981080"/>
            <a:ext cx="446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280040" y="1981080"/>
            <a:ext cx="428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317840" y="1981080"/>
            <a:ext cx="101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895480" y="1981080"/>
            <a:ext cx="1346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083120" y="2438280"/>
            <a:ext cx="442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118040" y="2438280"/>
            <a:ext cx="428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65560" y="25099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270240" y="2514600"/>
            <a:ext cx="819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3848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3657600" y="2133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962520" y="2362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276720" y="2362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27672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76720" y="21337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962520" y="243828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3886200" y="24382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19810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962520" y="198108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971800" y="2476440"/>
            <a:ext cx="304920" cy="76320"/>
            <a:chOff x="2971800" y="2476440"/>
            <a:chExt cx="304920" cy="76320"/>
          </a:xfrm>
        </p:grpSpPr>
        <p:sp>
          <p:nvSpPr>
            <p:cNvPr id="314" name=""/>
            <p:cNvSpPr/>
            <p:nvPr/>
          </p:nvSpPr>
          <p:spPr>
            <a:xfrm>
              <a:off x="2971800" y="251460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2994120" y="247644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4640" y="2476440"/>
              <a:ext cx="446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059280" y="247644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02120" y="2476440"/>
              <a:ext cx="4428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3146400" y="247644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89240" y="2476440"/>
              <a:ext cx="446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233880" y="251460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54400" y="251460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581280" y="2514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42900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42900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35268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89548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895480" y="9907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666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666880" y="12952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260880" y="1941480"/>
            <a:ext cx="458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R3 68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879640" y="2322360"/>
            <a:ext cx="458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R4 68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251160" y="2593800"/>
            <a:ext cx="2761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C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184560" y="3008160"/>
            <a:ext cx="4129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1.0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: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70360" y="2627280"/>
            <a:ext cx="6415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Audio Jac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98800" y="1814400"/>
            <a:ext cx="2761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J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46360" y="247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60560" y="19461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60560" y="28605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56400" y="247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666880" y="167652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895480" y="152388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31960" y="3938760"/>
            <a:ext cx="49320" cy="55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320" bIns="4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31960" y="4319640"/>
            <a:ext cx="49320" cy="55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320" bIns="4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00200" y="12952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31960" y="1641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631960" y="392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860560" y="4308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860560" y="14889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279440" y="3990960"/>
            <a:ext cx="3222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R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5W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736640" y="3990960"/>
            <a:ext cx="3222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R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5W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127160" y="3770280"/>
            <a:ext cx="12812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 Balancing Resisto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50840" y="1407960"/>
            <a:ext cx="6872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Audio Inpu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S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Nomin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56000" y="955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346480" y="722160"/>
            <a:ext cx="4586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Audi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990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52760" y="11383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0" y="0"/>
                </a:lnTo>
                <a:lnTo>
                  <a:pt x="106" y="213"/>
                </a:lnTo>
                <a:lnTo>
                  <a:pt x="213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7756560" y="6110280"/>
            <a:ext cx="549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1 of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69960" y="4662360"/>
            <a:ext cx="3049560" cy="16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1) Four of 16 circuits shown, all par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o Shack Part Numb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2) 30Watt PA Amplifier, #32-20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3) Nova 35 stereo headphones, #33-1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4) 3 Conductor Mini-jacks, #274-2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5) 20 Ft. microphone extension cables, #42-24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6) 1 Ft. cable with volume control, #42-24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937040" y="1004760"/>
            <a:ext cx="244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165640" y="1004760"/>
            <a:ext cx="1160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Original rele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7070760" y="1004760"/>
            <a:ext cx="549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5/5/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80880" y="228600"/>
            <a:ext cx="7925040" cy="4267080"/>
            <a:chOff x="380880" y="228600"/>
            <a:chExt cx="7925040" cy="4267080"/>
          </a:xfrm>
        </p:grpSpPr>
        <p:sp>
          <p:nvSpPr>
            <p:cNvPr id="364" name=""/>
            <p:cNvSpPr/>
            <p:nvPr/>
          </p:nvSpPr>
          <p:spPr>
            <a:xfrm flipV="1">
              <a:off x="38088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880" y="22860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8580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495288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129528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160020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880" y="53352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0880" y="83808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0880" y="114300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0880" y="144792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0880" y="175248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830592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0880" y="205740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0880" y="236232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0880" y="266688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0880" y="297180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0880" y="327672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0880" y="4495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24080" y="4495680"/>
              <a:ext cx="2438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86600" y="4495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880" y="358128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880" y="388620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0880" y="419112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312408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42900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73392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03848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434340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464832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99072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25780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556272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867280" y="22860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6172200" y="22860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6477120" y="22860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781680" y="22860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708660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739152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769608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800100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600200" y="4191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19520" y="4191120"/>
              <a:ext cx="30456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67280" y="4191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5562720" y="4191120"/>
              <a:ext cx="30456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81680" y="4191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1905120" y="22860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209680" y="22860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514600" y="22860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819520" y="22860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05120" y="4191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 txBox="1"/>
          <p:nvPr/>
        </p:nvSpPr>
        <p:spPr>
          <a:xfrm>
            <a:off x="7564320" y="6337440"/>
            <a:ext cx="1341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Scale: 2 x 2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267080" y="2286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267080" y="31240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7696080" y="533520"/>
            <a:ext cx="457200" cy="914400"/>
            <a:chOff x="7696080" y="533520"/>
            <a:chExt cx="457200" cy="914400"/>
          </a:xfrm>
        </p:grpSpPr>
        <p:sp>
          <p:nvSpPr>
            <p:cNvPr id="418" name=""/>
            <p:cNvSpPr/>
            <p:nvPr/>
          </p:nvSpPr>
          <p:spPr>
            <a:xfrm>
              <a:off x="8001000" y="6858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96080" y="53352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01000" y="1143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80880" y="624852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086600" y="1752480"/>
            <a:ext cx="457200" cy="914400"/>
            <a:chOff x="7086600" y="1752480"/>
            <a:chExt cx="457200" cy="914400"/>
          </a:xfrm>
        </p:grpSpPr>
        <p:sp>
          <p:nvSpPr>
            <p:cNvPr id="423" name=""/>
            <p:cNvSpPr/>
            <p:nvPr/>
          </p:nvSpPr>
          <p:spPr>
            <a:xfrm>
              <a:off x="7391520" y="19051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86600" y="17524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91520" y="23623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086600" y="533520"/>
            <a:ext cx="457200" cy="914400"/>
            <a:chOff x="7086600" y="533520"/>
            <a:chExt cx="457200" cy="914400"/>
          </a:xfrm>
        </p:grpSpPr>
        <p:sp>
          <p:nvSpPr>
            <p:cNvPr id="427" name=""/>
            <p:cNvSpPr/>
            <p:nvPr/>
          </p:nvSpPr>
          <p:spPr>
            <a:xfrm>
              <a:off x="7391520" y="6858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53352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91520" y="1143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7696080" y="1752480"/>
            <a:ext cx="457200" cy="914400"/>
            <a:chOff x="7696080" y="1752480"/>
            <a:chExt cx="457200" cy="914400"/>
          </a:xfrm>
        </p:grpSpPr>
        <p:sp>
          <p:nvSpPr>
            <p:cNvPr id="431" name=""/>
            <p:cNvSpPr/>
            <p:nvPr/>
          </p:nvSpPr>
          <p:spPr>
            <a:xfrm>
              <a:off x="8001000" y="19051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6080" y="17524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01000" y="23623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477120" y="533520"/>
            <a:ext cx="456840" cy="914400"/>
            <a:chOff x="6477120" y="533520"/>
            <a:chExt cx="456840" cy="914400"/>
          </a:xfrm>
        </p:grpSpPr>
        <p:sp>
          <p:nvSpPr>
            <p:cNvPr id="435" name=""/>
            <p:cNvSpPr/>
            <p:nvPr/>
          </p:nvSpPr>
          <p:spPr>
            <a:xfrm>
              <a:off x="6781680" y="6858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77120" y="53352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81680" y="1143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867280" y="1752480"/>
            <a:ext cx="457200" cy="914400"/>
            <a:chOff x="5867280" y="1752480"/>
            <a:chExt cx="457200" cy="914400"/>
          </a:xfrm>
        </p:grpSpPr>
        <p:sp>
          <p:nvSpPr>
            <p:cNvPr id="439" name=""/>
            <p:cNvSpPr/>
            <p:nvPr/>
          </p:nvSpPr>
          <p:spPr>
            <a:xfrm>
              <a:off x="6172200" y="19051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867280" y="17524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72200" y="23623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867280" y="533520"/>
            <a:ext cx="457200" cy="914400"/>
            <a:chOff x="5867280" y="533520"/>
            <a:chExt cx="457200" cy="914400"/>
          </a:xfrm>
        </p:grpSpPr>
        <p:sp>
          <p:nvSpPr>
            <p:cNvPr id="443" name=""/>
            <p:cNvSpPr/>
            <p:nvPr/>
          </p:nvSpPr>
          <p:spPr>
            <a:xfrm>
              <a:off x="6172200" y="6858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67280" y="53352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72200" y="1143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6477120" y="1752480"/>
            <a:ext cx="456840" cy="914400"/>
            <a:chOff x="6477120" y="1752480"/>
            <a:chExt cx="456840" cy="914400"/>
          </a:xfrm>
        </p:grpSpPr>
        <p:sp>
          <p:nvSpPr>
            <p:cNvPr id="447" name=""/>
            <p:cNvSpPr/>
            <p:nvPr/>
          </p:nvSpPr>
          <p:spPr>
            <a:xfrm>
              <a:off x="6781680" y="19051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477120" y="17524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81680" y="23623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257800" y="533520"/>
            <a:ext cx="457200" cy="914400"/>
            <a:chOff x="5257800" y="533520"/>
            <a:chExt cx="457200" cy="914400"/>
          </a:xfrm>
        </p:grpSpPr>
        <p:sp>
          <p:nvSpPr>
            <p:cNvPr id="451" name=""/>
            <p:cNvSpPr/>
            <p:nvPr/>
          </p:nvSpPr>
          <p:spPr>
            <a:xfrm>
              <a:off x="5562720" y="6858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57800" y="53352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62720" y="1143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648320" y="1752480"/>
            <a:ext cx="456840" cy="914400"/>
            <a:chOff x="4648320" y="1752480"/>
            <a:chExt cx="456840" cy="914400"/>
          </a:xfrm>
        </p:grpSpPr>
        <p:sp>
          <p:nvSpPr>
            <p:cNvPr id="455" name=""/>
            <p:cNvSpPr/>
            <p:nvPr/>
          </p:nvSpPr>
          <p:spPr>
            <a:xfrm>
              <a:off x="4952880" y="19051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48320" y="17524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52880" y="23623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4648320" y="838080"/>
            <a:ext cx="456840" cy="914400"/>
            <a:chOff x="4648320" y="838080"/>
            <a:chExt cx="456840" cy="914400"/>
          </a:xfrm>
        </p:grpSpPr>
        <p:sp>
          <p:nvSpPr>
            <p:cNvPr id="459" name=""/>
            <p:cNvSpPr/>
            <p:nvPr/>
          </p:nvSpPr>
          <p:spPr>
            <a:xfrm>
              <a:off x="4952880" y="9907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48320" y="8380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52880" y="14479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5257800" y="1752480"/>
            <a:ext cx="457200" cy="914400"/>
            <a:chOff x="5257800" y="1752480"/>
            <a:chExt cx="457200" cy="914400"/>
          </a:xfrm>
        </p:grpSpPr>
        <p:sp>
          <p:nvSpPr>
            <p:cNvPr id="463" name=""/>
            <p:cNvSpPr/>
            <p:nvPr/>
          </p:nvSpPr>
          <p:spPr>
            <a:xfrm>
              <a:off x="5562720" y="19051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57800" y="17524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62720" y="23623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038480" y="1752480"/>
            <a:ext cx="457200" cy="914400"/>
            <a:chOff x="4038480" y="1752480"/>
            <a:chExt cx="457200" cy="914400"/>
          </a:xfrm>
        </p:grpSpPr>
        <p:sp>
          <p:nvSpPr>
            <p:cNvPr id="467" name=""/>
            <p:cNvSpPr/>
            <p:nvPr/>
          </p:nvSpPr>
          <p:spPr>
            <a:xfrm>
              <a:off x="4343400" y="19051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38480" y="17524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43400" y="23623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038480" y="838080"/>
            <a:ext cx="457200" cy="914400"/>
            <a:chOff x="4038480" y="838080"/>
            <a:chExt cx="457200" cy="914400"/>
          </a:xfrm>
        </p:grpSpPr>
        <p:sp>
          <p:nvSpPr>
            <p:cNvPr id="471" name=""/>
            <p:cNvSpPr/>
            <p:nvPr/>
          </p:nvSpPr>
          <p:spPr>
            <a:xfrm>
              <a:off x="4343400" y="9907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38480" y="8380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343400" y="14479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429000" y="1752480"/>
            <a:ext cx="457200" cy="914400"/>
            <a:chOff x="3429000" y="1752480"/>
            <a:chExt cx="457200" cy="914400"/>
          </a:xfrm>
        </p:grpSpPr>
        <p:sp>
          <p:nvSpPr>
            <p:cNvPr id="475" name=""/>
            <p:cNvSpPr/>
            <p:nvPr/>
          </p:nvSpPr>
          <p:spPr>
            <a:xfrm>
              <a:off x="3733920" y="19051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429000" y="17524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3920" y="23623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429000" y="838080"/>
            <a:ext cx="457200" cy="914400"/>
            <a:chOff x="3429000" y="838080"/>
            <a:chExt cx="457200" cy="914400"/>
          </a:xfrm>
        </p:grpSpPr>
        <p:sp>
          <p:nvSpPr>
            <p:cNvPr id="479" name=""/>
            <p:cNvSpPr/>
            <p:nvPr/>
          </p:nvSpPr>
          <p:spPr>
            <a:xfrm>
              <a:off x="3733920" y="9907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429000" y="8380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33920" y="14479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3657600" y="373392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24080" y="3352680"/>
            <a:ext cx="30492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762120" y="380880"/>
            <a:ext cx="1904760" cy="2286000"/>
            <a:chOff x="762120" y="380880"/>
            <a:chExt cx="1904760" cy="2286000"/>
          </a:xfrm>
        </p:grpSpPr>
        <p:grpSp>
          <p:nvGrpSpPr>
            <p:cNvPr id="485" name=""/>
            <p:cNvGrpSpPr/>
            <p:nvPr/>
          </p:nvGrpSpPr>
          <p:grpSpPr>
            <a:xfrm>
              <a:off x="2209680" y="1600200"/>
              <a:ext cx="457200" cy="914400"/>
              <a:chOff x="2209680" y="1600200"/>
              <a:chExt cx="457200" cy="914400"/>
            </a:xfrm>
          </p:grpSpPr>
          <p:sp>
            <p:nvSpPr>
              <p:cNvPr id="486" name=""/>
              <p:cNvSpPr/>
              <p:nvPr/>
            </p:nvSpPr>
            <p:spPr>
              <a:xfrm>
                <a:off x="2514600" y="175248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209680" y="1600200"/>
                <a:ext cx="2286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514600" y="220968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2209680" y="685800"/>
              <a:ext cx="457200" cy="914400"/>
              <a:chOff x="2209680" y="685800"/>
              <a:chExt cx="457200" cy="914400"/>
            </a:xfrm>
          </p:grpSpPr>
          <p:sp>
            <p:nvSpPr>
              <p:cNvPr id="490" name=""/>
              <p:cNvSpPr/>
              <p:nvPr/>
            </p:nvSpPr>
            <p:spPr>
              <a:xfrm>
                <a:off x="2514600" y="83808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209680" y="685800"/>
                <a:ext cx="2286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514600" y="129528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1219320" y="1752480"/>
              <a:ext cx="456840" cy="914400"/>
              <a:chOff x="1219320" y="1752480"/>
              <a:chExt cx="456840" cy="914400"/>
            </a:xfrm>
          </p:grpSpPr>
          <p:sp>
            <p:nvSpPr>
              <p:cNvPr id="494" name=""/>
              <p:cNvSpPr/>
              <p:nvPr/>
            </p:nvSpPr>
            <p:spPr>
              <a:xfrm>
                <a:off x="1523880" y="19051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219320" y="1752480"/>
                <a:ext cx="2286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523880" y="23623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1219320" y="8380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23880" y="14479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762120" y="1600200"/>
              <a:ext cx="457200" cy="914400"/>
              <a:chOff x="762120" y="1600200"/>
              <a:chExt cx="457200" cy="914400"/>
            </a:xfrm>
          </p:grpSpPr>
          <p:sp>
            <p:nvSpPr>
              <p:cNvPr id="500" name=""/>
              <p:cNvSpPr/>
              <p:nvPr/>
            </p:nvSpPr>
            <p:spPr>
              <a:xfrm>
                <a:off x="762120" y="175248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990720" y="1600200"/>
                <a:ext cx="2286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62120" y="220968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762120" y="685800"/>
              <a:ext cx="457200" cy="914400"/>
              <a:chOff x="762120" y="685800"/>
              <a:chExt cx="457200" cy="914400"/>
            </a:xfrm>
          </p:grpSpPr>
          <p:sp>
            <p:nvSpPr>
              <p:cNvPr id="504" name=""/>
              <p:cNvSpPr/>
              <p:nvPr/>
            </p:nvSpPr>
            <p:spPr>
              <a:xfrm>
                <a:off x="762120" y="83808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990720" y="685800"/>
                <a:ext cx="2286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62120" y="129528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1752480" y="1752480"/>
              <a:ext cx="457200" cy="914400"/>
              <a:chOff x="1752480" y="1752480"/>
              <a:chExt cx="457200" cy="914400"/>
            </a:xfrm>
          </p:grpSpPr>
          <p:sp>
            <p:nvSpPr>
              <p:cNvPr id="508" name=""/>
              <p:cNvSpPr/>
              <p:nvPr/>
            </p:nvSpPr>
            <p:spPr>
              <a:xfrm>
                <a:off x="1752480" y="19051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981080" y="1752480"/>
                <a:ext cx="2286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752480" y="23623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1676520" y="9907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981080" y="8380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52480" y="14479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266840" y="609480"/>
              <a:ext cx="9144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47720" y="38088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3429000" y="3352680"/>
            <a:ext cx="9144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343400" y="3352680"/>
            <a:ext cx="9144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257800" y="3352680"/>
            <a:ext cx="30492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029200" y="373392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419720" y="373392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838080" y="327672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Gr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19320" y="3809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14400" y="3809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28800" y="3429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9480" y="3429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23880" y="3809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7238880" y="3352680"/>
            <a:ext cx="76212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VE 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4680" y="41148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162920" y="41148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924680" y="327672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162920" y="327672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889280" y="4213080"/>
            <a:ext cx="947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No 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867280" y="4191120"/>
            <a:ext cx="30492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638680" y="4419720"/>
            <a:ext cx="152280" cy="609480"/>
            <a:chOff x="5638680" y="4419720"/>
            <a:chExt cx="152280" cy="609480"/>
          </a:xfrm>
        </p:grpSpPr>
        <p:sp>
          <p:nvSpPr>
            <p:cNvPr id="535" name=""/>
            <p:cNvSpPr/>
            <p:nvPr/>
          </p:nvSpPr>
          <p:spPr>
            <a:xfrm>
              <a:off x="5638680" y="44197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38680" y="48769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343400" y="4572000"/>
            <a:ext cx="9144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29000" y="4572000"/>
            <a:ext cx="9144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24280" y="4952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419720" y="4952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29200" y="4952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09880" y="4952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05320" y="4952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114800" y="4952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622840" y="14698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Written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203480" y="1165320"/>
            <a:ext cx="1155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W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295800" y="3375000"/>
            <a:ext cx="2252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Paperwork   Reg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375000" y="4627440"/>
            <a:ext cx="194148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andidate 610 Prepa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156360" y="4518000"/>
            <a:ext cx="1119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heck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harl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0880" y="5410080"/>
            <a:ext cx="9144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2.0’ x 6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8088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1.5’ x 6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0880" y="48006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2.5’ x 6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517680" y="6240600"/>
            <a:ext cx="4478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S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990720" y="624852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127160" y="6232680"/>
            <a:ext cx="441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P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308640" y="3954600"/>
            <a:ext cx="853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ID Chec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5622840" y="4487760"/>
            <a:ext cx="798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heck-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Assist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489480" y="3954600"/>
            <a:ext cx="511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le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175280" y="3878280"/>
            <a:ext cx="739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Regist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784760" y="3878280"/>
            <a:ext cx="619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Ban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lenn E Cabana, Charles F Hunt</dc:creator>
  <dc:description/>
  <dc:language>en-US</dc:language>
  <cp:lastModifiedBy>  </cp:lastModifiedBy>
  <cp:revision>0</cp:revision>
  <dc:subject/>
  <dc:title>CW Audio Bar Schematic</dc:title>
</cp:coreProperties>
</file>